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8C4-2114-4294-9C34-B8E35DEF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7EBA-80A9-4D53-A1CD-DDAD5337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13D0-C132-4081-95EB-9AE7E770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9C6A-7F34-40E7-A81E-764F4A13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4DED-556D-4A67-A73F-AE9F8D0B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EE99-AF9A-486C-8AD7-2BD90DD9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AAAE-B789-4EC8-85E3-F7373955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A125-EF76-4780-A03F-15ABB5A8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6272-EEB5-4811-9DBE-33E0199D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6EED-44FD-466B-86FD-239E52BE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71E5-576D-432B-B2AC-928EF087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A3DF-604B-49B0-940B-8FD9CBBC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7A57-6D9F-4D02-BE49-567FBD6FA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9898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pporting Information Product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ign Elements, POCCCC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haracteristics of high-quality user interfaces, FUA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effective information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9152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effectiveness of decisions &amp; actions through Problem-solving process, con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data choice appropriate for validation techniq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results compared with expected results in test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ppropriate on-screen user document completed to support users of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elements of visual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hierarchy of page on screen; the prominence of various elements on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ing of page elements, sizing of fonts &amp; graphic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 and aspect of elements on a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direction of logo; size of on-screen page; how is the help file to be viewed, full screen Vs floating window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elements of visual design, cont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larity &amp; Consis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larity - How clearly all screen elements can be view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nsistency – Elements such as heading styles, color schemes &amp; navigation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Use of accepted conv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lor &amp; Cont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lors should make the on-screen product readable &amp; attr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ntrast, should be contrast b/w background &amp;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of high-quality user interfaces &amp; effective information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sability &amp; acces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ransparent interface, ie. Access the information so easily don’t notice the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terface should be clear, thoroughly planned with logical information architecture, avoid long or wide screens requiring scro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nt selection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se of two types of fonts, serif &amp; sans ser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se of two type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of high-quality user interfaces &amp; effective information architecture, cont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le to find what users want immediate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simple and familiar symb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common words, eg. Help, for a help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common navigation symbols, eg.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know type of equipment user is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of high-quality user interfaces &amp; effective information architecture, cont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acces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ation should be able to be read in common software applications, eg. Ad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ness &amp; Rele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meet needs of intended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highly technical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ive information architecture for an on-screen information prod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y in which information is structured and ways it can be navigated by a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fully planned using design tools, eg. site maps &amp; story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must be log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sually representing decisions &amp; 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sations record decisions taken during the problem-solv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acing &amp; analysis of decisions &amp; actions mean difficulties or errors occurred can be identified &amp; addr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to visually represent deci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 mapping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effectiveness of decisions &amp; actions through Problem-solv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g. was problem correctly identified; data selected complete; appropriate output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g. s/w chosen appropriate? Functions appropri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g. designs followed accurately? Data entry accurate 7 validated; solutions timely? Regular backups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8T23:57:22Z</dcterms:created>
  <dc:creator>Kelvin Baird</dc:creator>
  <dc:description/>
  <dc:language>en-US</dc:language>
  <cp:lastModifiedBy>Kelvin Baird</cp:lastModifiedBy>
  <dcterms:modified xsi:type="dcterms:W3CDTF">2007-07-09T01:13:45Z</dcterms:modified>
  <cp:revision>4</cp:revision>
  <dc:subject/>
  <dc:title>Supporting Information Products</dc:title>
</cp:coreProperties>
</file>